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B07-178F-47FD-83CD-914717BD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C51-8A9D-4104-BB54-7E676640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3C2-F1BA-421B-AF8E-D77BD9A6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0F6-1FDE-468A-99CB-54B054B3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DC12-84F4-4A7B-8100-2B369EDB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D074-2647-402D-9BA0-35183031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4312-B06C-4D0E-995E-7C223BA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5D99-A2B9-4D5D-8B69-8371517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361-CAD5-4CC9-9ECE-2B364DDD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7DB-6E06-4D26-8206-BC6DE39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239E-EC5A-43DB-9B32-3C9F85B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580-3FA4-458C-A49C-1E5F56E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E9AA-437A-46CB-B292-F32B5E3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5E1F-0EE2-4C1B-B496-B5632EE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D163-6EE7-4928-AEC5-F6E31E98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910-1489-4DB9-BACB-B76FCABC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D16-35CF-4914-8AE5-8F5669B6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2F8-918B-49CD-B3DF-B2C3F5D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89E-25DB-47D7-9737-4EAB7DF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A5D-9DB7-463C-8B41-E728860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96E-610E-4113-BF59-F4671940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245-C18B-4BF4-8E9B-A187A5DA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C85-BB46-4DBA-9408-66E99E43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565-960B-4295-8BD7-48D1B2F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2F9-09B5-4C85-A073-3E7736214F0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1D3-D4D0-4C6A-9047-CB3F26E6BA7B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в  начале 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4560" y="1981080"/>
            <a:ext cx="331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н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ыж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ж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98680" y="1981080"/>
            <a:ext cx="43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сточ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ндыш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38400" y="1981080"/>
            <a:ext cx="30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ш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19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7:57:02Z</dcterms:created>
  <dc:creator>Алексей</dc:creator>
  <dc:description/>
  <dc:language>en-US</dc:language>
  <cp:lastModifiedBy>тест</cp:lastModifiedBy>
  <dcterms:modified xsi:type="dcterms:W3CDTF">2012-02-29T08:43:51Z</dcterms:modified>
  <cp:revision>3</cp:revision>
  <dc:subject/>
  <dc:title>Автоматизация  [л]  в  начале слова</dc:title>
</cp:coreProperties>
</file>